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2.gif" ContentType="image/gif"/>
  <Override PartName="/ppt/media/image1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2B3-E2B8-4CC1-BB8F-11CE501E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4B9-CC9F-4E2B-AABF-F6908E1B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646-724E-4377-9996-9FB5FD90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1FC-84AE-4F65-A1AE-E71A95D8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79CF-8522-41C7-8F33-61C6A090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55BF-7466-4326-B3E3-19558648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8524-4082-4206-83BE-23139D1A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73C7-A445-4C30-BECC-69216875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C73E-33B6-4870-B3E2-16AFC01E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79D0-BFAE-408B-9AE4-165F8FB0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AB77-97FD-451B-9A88-75427272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969-BF44-4AC3-9FCB-F8CEED9B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0E6A-6601-493C-9185-DFDBBFFE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645A-AE9D-4AE2-9B85-7A35819A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EF78-B89D-4791-912D-DB28DDB4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142A-CFD0-45ED-8A7E-515A3D8C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0491-2C21-4948-BA2B-63F2A8D9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7C4-1509-40CC-8A26-99162E0C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CC9-95E6-40A9-BF63-75F73BC3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BB4-129E-4C36-A194-2B35EAF5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E0F-EFB3-4E84-9B28-DEEA0EEC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E01-152D-4E6D-ADB7-0299B8D8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92B-2C77-4448-AD39-4BA73465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201-1D90-4EEB-B0A7-EBA29394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AA46-8D84-4C35-8BFA-11AB1801DD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2D97-957D-44B3-8EDD-CD8FF96103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Arial"/>
              </a:rPr>
              <a:t>Langage </a:t>
            </a:r>
            <a:r>
              <a:rPr b="0" lang="en-US" sz="15000" spc="-1" strike="noStrike">
                <a:solidFill>
                  <a:srgbClr val="b2b2b2"/>
                </a:solidFill>
                <a:latin typeface="Arial"/>
              </a:rPr>
              <a:t>C</a:t>
            </a:r>
            <a:br>
              <a:rPr sz="4400"/>
            </a:br>
            <a:endParaRPr b="0" lang="en-US" sz="15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éveloppement logiciel sur 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icro-contrôleurs en C AN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9500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.06788 -0.04118 C 0.07778 -0.05783 0.08785 -0.07634 0.09774 -0.09993 C 0.12448 -0.16679 0.1316 -0.23225 0.11198 -0.24243 C 0.09201 -0.25399 0.05365 -0.20727 0.02674 -0.13995 C 0.0125 -0.10479 0.00417 -0.07125 0.00122 -0.04604 C -0.00295 -0.02591 -0.00451 -0.00579 -0.00451 0.01781 C -0.00451 0.09322 0.01406 0.15521 0.03542 0.15521 C 0.0566 0.15521 0.075 0.09322 0.075 0.01781 C 0.075 -0.01758 0.07083 -0.05136 0.06372 -0.07449 C 0.06076 -0.09461 0.05365 -0.11636 0.04531 -0.13833 C 0.01701 -0.20727 -0.02135 -0.25399 -0.04132 -0.24243 C -0.06111 -0.23063 -0.05399 -0.16679 -0.02569 -0.09808 C -0.01424 -0.06616 0.00122 -0.03933 0.01701 -0.02105 C 0.0283 -0.00417 0.04115 0.0111 0.05799 0.02614 C 0.10903 0.07471 0.1599 0.09669 0.17413 0.07633 C 0.18698 0.05621 0.15868 0.000919999999999997 0.10747 -0.04604 C 0.08628 -0.06616 0.06372 -0.0812 0.04531 -0.09138 C 0.0283 -0.10155 0.00694 -0.10965 -0.0158 -0.11497 C -0.07795 -0.13163 -0.13194 -0.12654 -0.13611 -0.09993 C -0.14167 -0.07449 -0.09497 -0.04118 -0.03281 -0.02429 C -0.00451 -0.01758 0.02257 -0.01435 0.04375 -0.01597 C 0.06215 -0.01597 0.08212 -0.0192 0.1033 -0.02429 C 0.16563 -0.04118 0.21267 -0.07634 0.2066 -0.10155 C 0.20243 -0.12654 0.14861 -0.13324 0.08628 -0.11636 C 0.0566 -0.10826 0.02951 -0.09646 0.01128 -0.08305 C -0.00451 -0.0731 -0.01997 -0.06107 -0.03698 -0.04604 C -0.08663 0.00254 -0.11649 0.05621 -0.10208 0.07633 C -0.08941 0.09669 -0.03698 0.07471 0.0125 0.02752 C 0.03663 0.00439 0.0566 -0.0192 0.06788 -0.04118 Z">
                                      <p:cBhvr>
                                        <p:cTn id="6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400"/>
                            </p:stCondLst>
                            <p:childTnLst>
                              <p:par>
                                <p:cTn id="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VARIABLES LOCALES ET GLOBA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L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it à une adresse fixe (statiqu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it dans une pile LIFO (automatiq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280" y="1700280"/>
            <a:ext cx="4249800" cy="64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294" y="2957"/>
                </a:moveTo>
                <a:lnTo>
                  <a:pt x="-387" y="3802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éclarées en dehors d’une fonction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oujours stati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2421000"/>
            <a:ext cx="424980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75" y="5995"/>
                </a:moveTo>
                <a:lnTo>
                  <a:pt x="-387" y="6851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éclarées dans une  fo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3357720"/>
            <a:ext cx="41767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90" y="-1717"/>
                </a:moveTo>
                <a:lnTo>
                  <a:pt x="-394" y="34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Arial"/>
              </a:rPr>
              <a:t>static char v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5013360"/>
            <a:ext cx="4176720" cy="71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68" y="2527"/>
                </a:moveTo>
                <a:lnTo>
                  <a:pt x="-394" y="34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har va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ucle F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 a,i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or (i=0 ;i&lt;100 ;i+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=a+i; // calcul la somme des nombres de 0 à 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har i=20 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or (;i&lt;100 ;i++) a=a+i; /* Pas de condition de départ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or( ;;) ;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/*une boucle sans fin non standard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2781360"/>
            <a:ext cx="4249800" cy="64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0" y="12094"/>
                </a:moveTo>
                <a:lnTo>
                  <a:pt x="-387" y="3802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Évolution d’une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2276640"/>
            <a:ext cx="4249800" cy="64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518" y="24241"/>
                </a:moveTo>
                <a:lnTo>
                  <a:pt x="-387" y="3802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ondition pour rester dans la bou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71640" y="1700280"/>
            <a:ext cx="2401920" cy="64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221" y="45260"/>
                </a:moveTo>
                <a:lnTo>
                  <a:pt x="-685" y="3802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ondition de dép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906480" cy="928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 flipH="1">
            <a:off x="7885080" y="260280"/>
            <a:ext cx="906480" cy="92880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ucle WHI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=0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ile (i&lt;1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=a+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++ 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i la condition de boucle est fausse au départ la boucle n’est jamais effectué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906480" cy="928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 flipH="1">
            <a:off x="7885080" y="260280"/>
            <a:ext cx="906480" cy="92880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ucle DO WHI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=a+i;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++ 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ile (i&lt;1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906480" cy="928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 flipH="1">
            <a:off x="7885080" y="260280"/>
            <a:ext cx="906480" cy="92880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Branchement : if - el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dition du test : ==, &lt;,&gt;,&lt;=,&gt;=, !=,&amp;&amp;,||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t calc(char 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f (c=='+') s=a+b;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f (c=='-') s=a-b;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f (c=='/') s=a/b;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f (c=='*') s=a*b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turn(s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311480" cy="131292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Brachement switch-ca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 calc(char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witch (c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se '+' : return (a+b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se '-' : return (a-b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se '*' : return (a*b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se '/' : return (a/b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fault : return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11120" cy="131292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trôle des bouc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break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permet de sortir de la boucle en cours (for, while, do while, swi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ontinu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permet de sauter directement à l’itération suivante d’une boucle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(i=0 ;i&lt;100 ;i++)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{ if (i&lt;50) continue else a=a+i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exi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permet de quitter directement le programme (inutile sur micro contrôleu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inteurs et donné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427640" y="1628640"/>
          <a:ext cx="4392360" cy="4530960"/>
        </p:xfrm>
        <a:graphic>
          <a:graphicData uri="http://schemas.openxmlformats.org/drawingml/2006/table">
            <a:tbl>
              <a:tblPr/>
              <a:tblGrid>
                <a:gridCol w="2197080"/>
                <a:gridCol w="219528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RES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NE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x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x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x8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x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x8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x9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xA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x9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x9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324000" y="1413000"/>
            <a:ext cx="4032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: pointeur en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0x8000-0x8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: char en 0x9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: char en 0x9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écution de b=*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xecution de p=p+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59640" y="5084640"/>
            <a:ext cx="1368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0X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59640" y="2781360"/>
            <a:ext cx="1368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0X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INTEU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3628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 sont des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ariabl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qui contiennent l’adresse d’une variabl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r micro-contrôleur un pointeur est une valeur sur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Arial"/>
              </a:rPr>
              <a:t>16bit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pointeur est déclaré par une * précédée du type de donnée pointé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signe &amp; devant une donnée indique l’adresse de celle ci et sa vale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r *p ;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éclare un pointeur p sur un caractè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loat *f ;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éclare une pointeur sur un ré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r *fonction(void)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éclare une fonction qui retourne un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ointeur sur un caractè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oid (*fonction) (void)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éclare un pointeur sur une fo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oid (*fonction) (void) = 0x8000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rée un pointeur sur une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onction en 8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73120" cy="90972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2b2b2"/>
                </a:solidFill>
                <a:latin typeface="Arial"/>
              </a:rPr>
              <a:t>manipulation de pointeurs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=1,b=2,c ;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/*trois entiers *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*p1,*p2 ;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/*deux pointeurs sur des entiers*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1=&amp;a ;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/*p1 contient l’adresse de  a*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2=p1 ;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*p2 contient l’adresse de a*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=*p1 ;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/*c égale le contenu de l’adresse pointé                        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ar p1 donc c=a*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2=&amp;b ;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/*p2 pointe b*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*p2=*p1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/*la donnée à l’adresse pointé par p2 est placée dans l’adresse pointé par p1, cela revient à donc recopier a dans b*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2421000"/>
            <a:ext cx="1798560" cy="1297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0199"/>
                </a:solidFill>
                <a:latin typeface="Arial"/>
                <a:ea typeface="Arial"/>
              </a:rPr>
              <a:t>Préprocess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Arial"/>
                <a:ea typeface="Arial"/>
              </a:rPr>
              <a:t>Remplace les #define et  effectue les #inclu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2421000"/>
            <a:ext cx="2663640" cy="1203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0199"/>
                </a:solidFill>
                <a:latin typeface="Arial"/>
                <a:ea typeface="Arial"/>
              </a:rPr>
              <a:t>Compilateur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Arial"/>
                <a:ea typeface="Arial"/>
              </a:rPr>
              <a:t>Transforme le fichier C en un fichier objet (code machine), les fonctions pré-compilés sont déclarées dans les fichiers *.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2205000"/>
            <a:ext cx="2448000" cy="1557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Arial"/>
                <a:ea typeface="Arial"/>
              </a:rPr>
              <a:t>Editeur de li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  <a:ea typeface="Arial"/>
              </a:rPr>
              <a:t>LIN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Arial"/>
                <a:ea typeface="Arial"/>
              </a:rPr>
              <a:t>Lie (donne des adresses aux fonctions) tous les fichiers objets et crée un fichier exécut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333360"/>
            <a:ext cx="1584360" cy="21607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10199"/>
                </a:solidFill>
                <a:latin typeface="Arial"/>
                <a:ea typeface="Arial"/>
              </a:rPr>
              <a:t>#include &lt;stdio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10199"/>
                </a:solidFill>
                <a:latin typeface="Arial"/>
                <a:ea typeface="Arial"/>
              </a:rPr>
              <a:t>mai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10199"/>
                </a:solidFill>
                <a:latin typeface="Arial"/>
                <a:ea typeface="Arial"/>
              </a:rPr>
              <a:t>{ puts(" Bonjour à tous 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10199"/>
                </a:solidFill>
                <a:latin typeface="Arial"/>
                <a:ea typeface="Arial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333360"/>
            <a:ext cx="1366560" cy="148896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Arial"/>
                <a:ea typeface="Arial"/>
              </a:rPr>
              <a:t>Fichiers  hea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Arial"/>
                <a:ea typeface="Arial"/>
              </a:rPr>
              <a:t>*.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47080" y="898560"/>
            <a:ext cx="303120" cy="4507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48680" y="1100160"/>
            <a:ext cx="303120" cy="44928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1720" y="1300320"/>
            <a:ext cx="303120" cy="4507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0720" y="1484280"/>
            <a:ext cx="303120" cy="4507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1700280"/>
            <a:ext cx="303120" cy="4507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333360"/>
            <a:ext cx="1655640" cy="14400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Arial"/>
                <a:ea typeface="Arial"/>
              </a:rPr>
              <a:t>Bibliothèques en C (text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Arial"/>
                <a:ea typeface="Arial"/>
              </a:rPr>
              <a:t>*.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32720" y="260280"/>
            <a:ext cx="241128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Bibliothèques pré-compilées (fichiers obje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40720" y="4149720"/>
            <a:ext cx="1224000" cy="13525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Arial"/>
                <a:ea typeface="Arial"/>
              </a:rPr>
              <a:t>Programme exécut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7640" y="2781360"/>
            <a:ext cx="432000" cy="45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1700280"/>
            <a:ext cx="455760" cy="792000"/>
          </a:xfrm>
          <a:prstGeom prst="downArrow">
            <a:avLst>
              <a:gd name="adj1" fmla="val 50000"/>
              <a:gd name="adj2" fmla="val 43444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700280"/>
            <a:ext cx="453960" cy="720720"/>
          </a:xfrm>
          <a:prstGeom prst="downArrow">
            <a:avLst>
              <a:gd name="adj1" fmla="val 50000"/>
              <a:gd name="adj2" fmla="val 39691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120360" y="274500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7030080" y="1691280"/>
            <a:ext cx="576360" cy="450720"/>
          </a:xfrm>
          <a:custGeom>
            <a:avLst/>
            <a:gdLst>
              <a:gd name="textAreaLeft" fmla="*/ 90000 w 576360"/>
              <a:gd name="textAreaRight" fmla="*/ 504360 w 576360"/>
              <a:gd name="textAreaTop" fmla="*/ 112680 h 450720"/>
              <a:gd name="textAreaBottom" fmla="*/ 338040 h 45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3357720"/>
            <a:ext cx="115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ichier source C contenant la fonction 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27640" y="4149720"/>
            <a:ext cx="1225800" cy="13525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Arial"/>
                <a:ea typeface="Arial"/>
              </a:rPr>
              <a:t>Fichier de symboles pour debug</a:t>
            </a:r>
            <a:r>
              <a:rPr b="0" lang="en-US" sz="14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1052640"/>
            <a:ext cx="1584360" cy="360360"/>
          </a:xfrm>
          <a:prstGeom prst="leftRightArrow">
            <a:avLst>
              <a:gd name="adj1" fmla="val 50000"/>
              <a:gd name="adj2" fmla="val 875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95280" y="2420280"/>
            <a:ext cx="720720" cy="863640"/>
          </a:xfrm>
          <a:custGeom>
            <a:avLst/>
            <a:gdLst>
              <a:gd name="textAreaLeft" fmla="*/ 0 w 720720"/>
              <a:gd name="textAreaRight" fmla="*/ 721080 w 720720"/>
              <a:gd name="textAreaTop" fmla="*/ -360 h 863640"/>
              <a:gd name="textAreaBottom" fmla="*/ 8636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8015040" y="3875040"/>
            <a:ext cx="622440" cy="450720"/>
          </a:xfrm>
          <a:prstGeom prst="rightArrow">
            <a:avLst>
              <a:gd name="adj1" fmla="val 50000"/>
              <a:gd name="adj2" fmla="val 3452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6537240" y="3911400"/>
            <a:ext cx="695160" cy="450720"/>
          </a:xfrm>
          <a:prstGeom prst="rightArrow">
            <a:avLst>
              <a:gd name="adj1" fmla="val 50000"/>
              <a:gd name="adj2" fmla="val 3855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451640" y="5516640"/>
            <a:ext cx="1692360" cy="1131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96000" y="5516640"/>
            <a:ext cx="1511280" cy="1209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0920" y="494172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FLUX DE DONNEES D’UN COMPILATEUR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b2b2b2"/>
                </a:solidFill>
                <a:latin typeface="Arial"/>
              </a:rPr>
              <a:t>exemple d’utilisation des pointeurs : la fonction echange 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2349360"/>
            <a:ext cx="4245120" cy="378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oid echange(int i ,int 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 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=i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=j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=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 et j sont permutés mais PAS x et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00720" y="2349360"/>
            <a:ext cx="4535280" cy="37814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oid echange(int *i ,int *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=*i 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*i=*j 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*j=k 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s contenus des adresses sont permutés, i et j pointant x et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16000" y="148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Arial"/>
              </a:rPr>
              <a:t>echange(x,y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148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00"/>
                </a:solidFill>
                <a:latin typeface="Arial"/>
              </a:rPr>
              <a:t>echange(&amp;x,&amp;y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771280" y="1989000"/>
            <a:ext cx="7164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03640" y="1989000"/>
            <a:ext cx="21600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7236000" y="1989000"/>
            <a:ext cx="72720" cy="432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0" y="1989000"/>
            <a:ext cx="144720" cy="432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ABLEAUX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tableau est un regroupement de variables de même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 chiffres[]={0,1,2,3,4,5,6,7,8,9}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 TAB[20]={1,12,13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AB est l’adresse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 début du tabl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r TAB[2][3]={{1,2,3},{4,5,6}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481880" y="260280"/>
            <a:ext cx="1225440" cy="1513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26200" y="2060640"/>
            <a:ext cx="291780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174" y="8944"/>
                </a:moveTo>
                <a:lnTo>
                  <a:pt x="-564" y="6851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hiffre[0]=0, et chiffre[3]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27640" y="2565360"/>
            <a:ext cx="252108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703" y="7137"/>
                </a:moveTo>
                <a:lnTo>
                  <a:pt x="-653" y="6851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AB[3] à TAB[19]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16360" y="3141720"/>
            <a:ext cx="4211640" cy="22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833" y="3630"/>
                </a:moveTo>
                <a:lnTo>
                  <a:pt x="-391" y="1089"/>
                </a:lnTo>
              </a:path>
            </a:pathLst>
          </a:custGeom>
          <a:noFill/>
          <a:ln w="5724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"/>
              </a:rPr>
              <a:t>TAB représente &amp;TAB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AB[0] représente *T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AB+i = &amp;TAB[i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"/>
              </a:rPr>
              <a:t>TAB+1 pointera la donnée suiv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236000" y="5589720"/>
            <a:ext cx="172872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593" y="5804"/>
                </a:moveTo>
                <a:lnTo>
                  <a:pt x="-952" y="6851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AB[1][1]=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înes de caractè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e sont des tableaux de caractères finissant par 0, </a:t>
            </a: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une chaîne est entourée de "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r message[ ]= "bonjour"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r message[ ]={‘b’,’o’,’n’,’j’,’o’,’u’,’r’,\0} 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r *p= message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hile (*p !=0) putchar(*p++) 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18200" y="5013360"/>
            <a:ext cx="3025800" cy="122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18" y="2381"/>
                </a:moveTo>
                <a:lnTo>
                  <a:pt x="-544" y="2017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Arial"/>
              </a:rPr>
              <a:t>La fonction puts(char *string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RUC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Une structure est composée de variables de types différents.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truct identite {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har nom[30];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nt age;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} jean,jacques,groupe[20];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jean.nom=« bonnot 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a=jean.ag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2060640"/>
            <a:ext cx="43210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951" y="36609"/>
                </a:moveTo>
                <a:lnTo>
                  <a:pt x="-381" y="5718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uveau type (facultatif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970200" cy="1068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Structures-Champs de bi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truct {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   unsigned RB0:1;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   unsigned RB1:1;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   unsigned RB2:1;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   unsigned RB3:1;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   unsigned RB4:1;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   unsigned RB5:1;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   unsigned RB6:1;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   unsigned RB7:1;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  } PORTBbits ;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76720" y="2997360"/>
            <a:ext cx="36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tilisatio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RTBbits.RB2=1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=PORTBbits.RB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8101080" y="476280"/>
            <a:ext cx="892080" cy="1438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RUCTURES - UN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507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Dans une UNION les champs partagent les mêmes adress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volatile near union  {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struct {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unsigned RE0:1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unsigned RE1:1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unsigned RE2:1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unsigned RE3:1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unsigned RE4:1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unsigned RE5:1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unsigned RE6:1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unsigned RE7:1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} 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struct {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unsigned ALE:1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unsigned OE:1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unsigned WRL:1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unsigned WRH:1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unsigned :3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unsigned CCP2:1;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} 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struct {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    unsigned AN5:1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} ;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} PORTEbits 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95640" y="198900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PORTEbits.RE0, </a:t>
            </a:r>
            <a:br>
              <a:rPr sz="1800"/>
            </a:b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PORTEbits.ALE  </a:t>
            </a:r>
            <a:br>
              <a:rPr sz="1800"/>
            </a:b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PORTEbits.AN5 </a:t>
            </a:r>
            <a:br>
              <a:rPr sz="1800"/>
            </a:b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désignent le même bit du même regist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4581360"/>
            <a:ext cx="388944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474" y="10752"/>
                </a:moveTo>
                <a:lnTo>
                  <a:pt x="-423" y="6851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es bits 4,5,6 ne sont pas déclaré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1640" y="5229360"/>
            <a:ext cx="28083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04" y="11894"/>
                </a:moveTo>
                <a:lnTo>
                  <a:pt x="-586" y="6851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eul le bit 0 est déclar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067040" cy="102852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T – transformation de typ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0755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AST automatique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ar -&gt; int -&gt; long -&gt; float -&gt; dou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igned -&gt; unsig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loat x ; int a=5 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x=(float)a ;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loat x=5.6 ; int a 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=(int)x 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8464680" y="189000"/>
            <a:ext cx="679320" cy="9046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580000" y="3789360"/>
            <a:ext cx="2305080" cy="93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729" y="8508"/>
                </a:moveTo>
                <a:lnTo>
                  <a:pt x="-714" y="2640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x=5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08720" y="5373720"/>
            <a:ext cx="1800000" cy="79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819" y="7056"/>
                </a:moveTo>
                <a:lnTo>
                  <a:pt x="-914" y="3117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=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732720" y="1844640"/>
            <a:ext cx="942840" cy="755640"/>
          </a:xfrm>
          <a:prstGeom prst="rect">
            <a:avLst/>
          </a:prstGeom>
          <a:ln w="0">
            <a:noFill/>
          </a:ln>
        </p:spPr>
      </p:pic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Initialisation d’un pointeur à une adresse absolu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#define PORTA *(unsigned char *)(0x1000)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x: var=PO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ORTA=v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5364360" y="691920"/>
            <a:ext cx="358560" cy="4248000"/>
          </a:xfrm>
          <a:custGeom>
            <a:avLst/>
            <a:gdLst>
              <a:gd name="textAreaLeft" fmla="*/ 0 w 358560"/>
              <a:gd name="textAreaRight" fmla="*/ 129600 w 35856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48000" y="5805360"/>
            <a:ext cx="547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1000 est un pointeur sur un caractère (CA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3320" y="3789360"/>
            <a:ext cx="5189400" cy="93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17" y="-30035"/>
                </a:moveTo>
                <a:lnTo>
                  <a:pt x="-317" y="2640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RTA est le contenu de cette adre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19223E-007 L -1.38889E-006 -0.41985 E">
                                      <p:cBhvr>
                                        <p:cTn id="35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crire court en 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672000" cy="28080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oid strcpy(char *s, char *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t 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=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{s[i] =t[i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++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ile (s[i-1] != ‘\0’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3884760" cy="1828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oid strcpy(char *s, char *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ile((*s++=*t++) != ‘\0’) 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4437000"/>
            <a:ext cx="3529080" cy="19209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oid strcpy(char *s, char *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ile((*s=*t) != ‘\0’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++ 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++ 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43280" y="3645000"/>
            <a:ext cx="3745080" cy="17683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oid strcpy(char *s, char *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hile (*s++=*t++)  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19640" y="580536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’après C ANSI de K&amp;R Mass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ntrées/sorties caractè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deux fonctions d’E/S sur caractè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66"/>
                </a:solidFill>
                <a:latin typeface="Arial"/>
              </a:rPr>
              <a:t>Elle sont définies pour le matériel </a:t>
            </a:r>
            <a:br>
              <a:rPr sz="2800"/>
            </a:br>
            <a:r>
              <a:rPr b="1" lang="fr-FR" sz="2800" spc="-1" strike="noStrike">
                <a:solidFill>
                  <a:srgbClr val="ffcc66"/>
                </a:solidFill>
                <a:latin typeface="Arial"/>
              </a:rPr>
              <a:t>support des commun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har getchar(void)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nt putchar(char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27640" y="5572080"/>
            <a:ext cx="2737080" cy="73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389" y="3026"/>
                </a:moveTo>
                <a:lnTo>
                  <a:pt x="-601" y="3352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voie un caractère (LCD par exem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08720" y="4221000"/>
            <a:ext cx="3457440" cy="86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2457"/>
                </a:moveTo>
                <a:lnTo>
                  <a:pt x="-476" y="2854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it un caractère en entrée (CLAVIER par exem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794720" y="1484280"/>
            <a:ext cx="1164960" cy="1554120"/>
          </a:xfrm>
          <a:prstGeom prst="rect">
            <a:avLst/>
          </a:prstGeom>
          <a:ln w="0">
            <a:noFill/>
          </a:ln>
        </p:spPr>
      </p:pic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mier program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#define pi 3.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#include &lt;stdio.h&gt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loat d,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=2.0 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=pi*d 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uts("bonjour à tous\n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intf("la circonférence est %f m\n",c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1341360"/>
            <a:ext cx="402768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57" y="14681"/>
                </a:moveTo>
                <a:lnTo>
                  <a:pt x="-409" y="4000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Arial"/>
              </a:rPr>
              <a:t>Equivalence : Le pre-processeur remplacera tous les pi par 3.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133720"/>
            <a:ext cx="40273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730" y="4163"/>
                </a:moveTo>
                <a:lnTo>
                  <a:pt x="-409" y="4000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Arial"/>
              </a:rPr>
              <a:t>Header de la bibliothèque standard in/out. (pour print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2924280"/>
            <a:ext cx="40273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695" y="-8338"/>
                </a:moveTo>
                <a:lnTo>
                  <a:pt x="-409" y="5718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éclaration de deux variables réel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3500280"/>
            <a:ext cx="402732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265" y="-3330"/>
                </a:moveTo>
                <a:lnTo>
                  <a:pt x="-409" y="6851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trée du programme princip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4076640"/>
            <a:ext cx="402768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694" y="24525"/>
                </a:moveTo>
                <a:lnTo>
                  <a:pt x="-409" y="4000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voie une chaîne de caractères sur le périphérique de sor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5805360"/>
            <a:ext cx="402732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55" y="-6244"/>
                </a:moveTo>
                <a:lnTo>
                  <a:pt x="-409" y="4000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Arial"/>
              </a:rPr>
              <a:t>Printf affiche des chaines formatés, ici c est affiché sous format ré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ntrées/sorties Chaîne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 partir de getchar et putch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void puts(char *chaîne)</a:t>
            </a: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 ;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char *gets(char *chaîne)</a:t>
            </a: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 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14920" y="4941720"/>
            <a:ext cx="5329080" cy="136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755" y="-977"/>
                </a:moveTo>
                <a:lnTo>
                  <a:pt x="-309" y="1804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aisie une chaîne de caractère finie par un RC et retourne un pointeur sur le premier caractère de cette chaî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43640" y="2133720"/>
            <a:ext cx="2735280" cy="86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704" y="16131"/>
                </a:moveTo>
                <a:lnTo>
                  <a:pt x="-602" y="2854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ffiche une chaîne de caractè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INTF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rintf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(format, liste de valeur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har a=10 ; float b=3.14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ntf("  décimal 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, hexa </a:t>
            </a:r>
            <a:r>
              <a:rPr b="0" lang="fr-FR" sz="2800" spc="-1" strike="noStrike">
                <a:solidFill>
                  <a:srgbClr val="ffcc66"/>
                </a:solidFill>
                <a:latin typeface="Arial"/>
              </a:rPr>
              <a:t>%x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, reel </a:t>
            </a:r>
            <a:r>
              <a:rPr b="0" lang="fr-FR" sz="2800" spc="-1" strike="noStrike">
                <a:solidFill>
                  <a:srgbClr val="ffffcc"/>
                </a:solidFill>
                <a:latin typeface="Arial"/>
              </a:rPr>
              <a:t>%f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 " ,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r-FR" sz="28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r-FR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) ;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ffichera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écimal 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, hexa </a:t>
            </a:r>
            <a:r>
              <a:rPr b="0" lang="fr-FR" sz="32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, reel 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3,14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cc"/>
                </a:solidFill>
                <a:latin typeface="Arial"/>
              </a:rPr>
              <a:t>sprintf(chaîne, format, liste de valeurs)  écrit dans chaî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48000" y="3716280"/>
            <a:ext cx="3600360" cy="565200"/>
          </a:xfrm>
          <a:custGeom>
            <a:avLst/>
            <a:gdLst/>
            <a:ahLst/>
            <a:rect l="l" t="t" r="r" b="b"/>
            <a:pathLst>
              <a:path w="2268" h="356">
                <a:moveTo>
                  <a:pt x="2268" y="0"/>
                </a:moveTo>
                <a:cubicBezTo>
                  <a:pt x="2181" y="110"/>
                  <a:pt x="2094" y="220"/>
                  <a:pt x="1769" y="273"/>
                </a:cubicBezTo>
                <a:cubicBezTo>
                  <a:pt x="1444" y="326"/>
                  <a:pt x="612" y="356"/>
                  <a:pt x="317" y="318"/>
                </a:cubicBezTo>
                <a:cubicBezTo>
                  <a:pt x="22" y="280"/>
                  <a:pt x="11" y="163"/>
                  <a:pt x="0" y="4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3716280"/>
            <a:ext cx="2449440" cy="649440"/>
          </a:xfrm>
          <a:custGeom>
            <a:avLst/>
            <a:gdLst/>
            <a:ahLst/>
            <a:rect l="l" t="t" r="r" b="b"/>
            <a:pathLst>
              <a:path w="2268" h="356">
                <a:moveTo>
                  <a:pt x="2268" y="0"/>
                </a:moveTo>
                <a:cubicBezTo>
                  <a:pt x="2181" y="110"/>
                  <a:pt x="2094" y="220"/>
                  <a:pt x="1769" y="273"/>
                </a:cubicBezTo>
                <a:cubicBezTo>
                  <a:pt x="1444" y="326"/>
                  <a:pt x="612" y="356"/>
                  <a:pt x="317" y="318"/>
                </a:cubicBezTo>
                <a:cubicBezTo>
                  <a:pt x="22" y="280"/>
                  <a:pt x="11" y="163"/>
                  <a:pt x="0" y="46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00720" y="3716280"/>
            <a:ext cx="1224000" cy="638280"/>
          </a:xfrm>
          <a:custGeom>
            <a:avLst/>
            <a:gdLst/>
            <a:ahLst/>
            <a:rect l="l" t="t" r="r" b="b"/>
            <a:pathLst>
              <a:path w="2268" h="356">
                <a:moveTo>
                  <a:pt x="2268" y="0"/>
                </a:moveTo>
                <a:cubicBezTo>
                  <a:pt x="2181" y="110"/>
                  <a:pt x="2094" y="220"/>
                  <a:pt x="1769" y="273"/>
                </a:cubicBezTo>
                <a:cubicBezTo>
                  <a:pt x="1444" y="326"/>
                  <a:pt x="612" y="356"/>
                  <a:pt x="317" y="318"/>
                </a:cubicBezTo>
                <a:cubicBezTo>
                  <a:pt x="22" y="280"/>
                  <a:pt x="11" y="163"/>
                  <a:pt x="0" y="46"/>
                </a:cubicBezTo>
              </a:path>
            </a:pathLst>
          </a:custGeom>
          <a:noFill/>
          <a:ln w="381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Formats sur printf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%c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(cha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%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(chaîne de caractères, jusqu'au \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%d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(i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%u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(entier non signé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%x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ou X (entier affiché en hexadécim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%f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(réel en virgule fix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%p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(pointeu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(pour afficher le signe 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96000" y="1557360"/>
            <a:ext cx="302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\ n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nouvelle lig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\ 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tab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\ b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back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\ r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retour chari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\ f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form fe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\ '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apostrop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\ \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antisl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\ "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double qu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\ 0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n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bliothèques standards C ANS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ctype.h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trouver les types ex: isdigit (chiffre) ou is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limits.h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dique les limites des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string.h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aitement sur les  chaî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math.h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onctions mathémat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stdlib.h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version de chaines (atoi atof) génération d’un nombre aléatoire (rand, srand) allocation dynamique de mémoire (malloc, calloc), tri (qsor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time.h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onctions liée à l’heure et à la génération de nombre aléato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b2b2b2"/>
                </a:solidFill>
                <a:latin typeface="Arial"/>
              </a:rPr>
              <a:t>Opérateurs unai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4000" y="134136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()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ppel de fonction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[]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dice de tableau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ableau[3]=5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égation logique (NOT)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~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mplément binaire bit à bi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=~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ins unair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=-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lus unair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=+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++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é ou postincrémen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=a++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--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é ou postdécrémen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=a--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dresse d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=&amp;a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direction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=*a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pérateurs binai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ication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=a*b;</a:t>
            </a:r>
            <a:br>
              <a:rPr sz="2800"/>
            </a:b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/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on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=a/b;</a:t>
            </a:r>
            <a:br>
              <a:rPr sz="2800"/>
            </a:b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lus  binair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=a+b;</a:t>
            </a:r>
            <a:br>
              <a:rPr sz="2800"/>
            </a:b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oins binair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=a-b;</a:t>
            </a:r>
            <a:br>
              <a:rPr sz="2800"/>
            </a:b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&lt;&lt;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écalage à gauch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=a&lt;&lt;b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&gt;&gt;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écalage à droit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=a&gt;&gt;b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&amp;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T entre bit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= a &amp; b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^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U exclusif entre bit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= a ^b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|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U entre bit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= a|b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S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&lt;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ictement inférieur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f (a &lt; b)</a:t>
            </a:r>
            <a:br>
              <a:rPr sz="2800"/>
            </a:b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&lt;=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férieur ou égal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f (a &gt;= b)</a:t>
            </a:r>
            <a:br>
              <a:rPr sz="2800"/>
            </a:b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&gt;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ictement supérieur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f (a &gt; b)</a:t>
            </a:r>
            <a:br>
              <a:rPr sz="2800"/>
            </a:b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&gt;=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périeur ou égal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f (a &gt;= b)</a:t>
            </a:r>
            <a:br>
              <a:rPr sz="2800"/>
            </a:b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==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gal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f (a ==b) </a:t>
            </a:r>
            <a:br>
              <a:rPr sz="2800"/>
            </a:b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=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fféren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f (a != b)</a:t>
            </a:r>
            <a:br>
              <a:rPr sz="2800"/>
            </a:b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&amp;&amp;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T logiqu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f ((a==5) &amp;&amp; (b==2)) </a:t>
            </a:r>
            <a:br>
              <a:rPr sz="2800"/>
            </a:b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||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U logiqu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f ((a==5) ||(b==2))</a:t>
            </a:r>
            <a:br>
              <a:rPr sz="2800"/>
            </a:b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?: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dition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=(a&gt;b)?a:b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Si a&gt;b a z=a sinon z=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Affectations et Auto-affect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=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ffectation simpl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=b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*=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ffectation produit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*=2  (a=a*2)</a:t>
            </a:r>
            <a:br>
              <a:rPr sz="2400"/>
            </a:b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/=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ffectation quotient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/=2  (a= a/2)</a:t>
            </a:r>
            <a:br>
              <a:rPr sz="2400"/>
            </a:b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%=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ffectation rest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%=2  (a= le reste de a/2)</a:t>
            </a:r>
            <a:br>
              <a:rPr sz="2400"/>
            </a:b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+=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ffectation somm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+=2  (a=a+2)</a:t>
            </a:r>
            <a:br>
              <a:rPr sz="2400"/>
            </a:b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-=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ffectation différenc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-=2  (a=a-2)</a:t>
            </a:r>
            <a:br>
              <a:rPr sz="2400"/>
            </a:b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&amp;=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ffectation ET entre bit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&amp;=5 (a=a&amp;5)</a:t>
            </a:r>
            <a:br>
              <a:rPr sz="2400"/>
            </a:b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^=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ffectation OU EX entre bit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^=5 (a=a^5)</a:t>
            </a:r>
            <a:br>
              <a:rPr sz="2400"/>
            </a:b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|=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ffectation OU  entre bit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|==5 (a=a|=5)</a:t>
            </a:r>
            <a:br>
              <a:rPr sz="2400"/>
            </a:b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&lt;&lt;=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ffectation décalage gauch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&lt;&lt;=5 (a=a&lt;&lt;5)</a:t>
            </a:r>
            <a:br>
              <a:rPr sz="2400"/>
            </a:br>
            <a:r>
              <a:rPr b="1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&gt;&gt;=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ffectation décalage droit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&gt;&gt;=5 (a=a&gt;&gt;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79200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cc"/>
                </a:solidFill>
                <a:latin typeface="Arial"/>
              </a:rPr>
              <a:t>Merci de votre atten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ercez vou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 langage s’apprend par la prat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Compilateur C/C++ gratuits 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DOS : TURBO C/C++ V1.01  </a:t>
            </a:r>
            <a:r>
              <a:rPr b="0" i="1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www.borland.fr</a:t>
            </a: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WIDOWS :  DEV-C++ www.bloodshed.ne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230200" cy="204300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La syntaxe du C – convertisseur €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#define TVA 19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#define taux 1.0/6.5595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#include &lt;stdlib.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har s[20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loat ph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loat calc_ttc(float prix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{ float 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=prix*(1.0+TVA/100.0)*tau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eturn(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int main(vo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{   puts("donnez le prix HT en francs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ht=atof(gets(s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intf("Prix HT en FRANCS : %f \n",ph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printf("Prix TTC en Euros : %f \n",calc_ttc(ph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while (pht!=0.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1628640"/>
            <a:ext cx="5651640" cy="122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60" y="4903"/>
                </a:moveTo>
                <a:lnTo>
                  <a:pt x="-291" y="2017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Librairies standards : </a:t>
            </a:r>
            <a:r>
              <a:rPr b="0" i="1" lang="fr-FR" sz="1800" spc="-1" strike="noStrike">
                <a:solidFill>
                  <a:srgbClr val="ffffcc"/>
                </a:solidFill>
                <a:latin typeface="Arial"/>
              </a:rPr>
              <a:t>les fichiers « header » *.h contiennent en général des équivalences ou les prototypes des fonctions précomplilées ici 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stdio</a:t>
            </a:r>
            <a:r>
              <a:rPr b="0" lang="fr-FR" sz="1800" spc="-1" strike="noStrike">
                <a:solidFill>
                  <a:srgbClr val="ffffcc"/>
                </a:solidFill>
                <a:latin typeface="Arial"/>
              </a:rPr>
              <a:t> pour printf, gets, puts et </a:t>
            </a: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stdlib</a:t>
            </a:r>
            <a:r>
              <a:rPr b="0" lang="fr-FR" sz="1800" spc="-1" strike="noStrike">
                <a:solidFill>
                  <a:srgbClr val="ffffcc"/>
                </a:solidFill>
                <a:latin typeface="Arial"/>
              </a:rPr>
              <a:t> pour a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3068640"/>
            <a:ext cx="504036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94" y="1904"/>
                </a:moveTo>
                <a:lnTo>
                  <a:pt x="-327" y="1804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onction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(ou sous programme), en C il n‘y a que des fon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Un paramètre réel en entrée, résultat sur un réel, du type y=sin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1765440" y="6380280"/>
            <a:ext cx="287280" cy="3585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560"/>
              <a:gd name="textAreaBottom" fmla="*/ 340200 h 3585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6470"/>
                </a:moveTo>
                <a:lnTo>
                  <a:pt x="17806" y="13476"/>
                </a:lnTo>
                <a:lnTo>
                  <a:pt x="3794" y="20483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1405080" y="6380280"/>
            <a:ext cx="287280" cy="3585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560"/>
              <a:gd name="textAreaBottom" fmla="*/ 340200 h 35856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3476"/>
                </a:moveTo>
                <a:lnTo>
                  <a:pt x="17806" y="6470"/>
                </a:lnTo>
                <a:lnTo>
                  <a:pt x="17806" y="20483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645336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s types de donné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149560"/>
                <a:gridCol w="1631880"/>
                <a:gridCol w="4448160"/>
              </a:tblGrid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ue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aine de valeu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gned char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128 à  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signed ch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 b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 à  2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gned int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 b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32768 à  327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signed int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 b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 à  655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ng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2 b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2,147,483,648 à  2,147,483,6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signed lo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2 b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 à  4,294,967,2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loat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2 b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4 * (10**-38) à  3.4 * (10**+3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uble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4 b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7 * (10**-308) à  1.7 * (10**+30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emples de déclar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har a,b,c ;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nt table[100] 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har tableau[]={10,0x1c,’A’,55,4}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har *chaine= “bonjour” ;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har *p ;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64000" y="4653000"/>
            <a:ext cx="547200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88" y="-7755"/>
                </a:moveTo>
                <a:lnTo>
                  <a:pt x="-301" y="3426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le symbole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ésigne un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ointeur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ur un type défi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 est un pointeur sur des caractè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11640" y="3860640"/>
            <a:ext cx="4032360" cy="50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78" y="1635"/>
                </a:moveTo>
                <a:lnTo>
                  <a:pt x="-408" y="4906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haîne de 8 caractères (finie par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88000" y="2133720"/>
            <a:ext cx="287964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467" y="14654"/>
                </a:moveTo>
                <a:lnTo>
                  <a:pt x="-572" y="6851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ableau de 100 enti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1484280"/>
            <a:ext cx="230364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851" y="20173"/>
                </a:moveTo>
                <a:lnTo>
                  <a:pt x="-715" y="6851"/>
                </a:lnTo>
              </a:path>
            </a:pathLst>
          </a:custGeom>
          <a:noFill/>
          <a:ln w="22320">
            <a:solidFill>
              <a:srgbClr val="ffffcc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rois caractè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quivalen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rective #de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es équivalences sont remplacées par leur valeur par le pré-processeur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#define pi 3.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#define fruit pomm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nstant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lles sont rangées dans la ROM et ne sont donc pas modif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st int i=16569, char c=0x4c 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st float pi=3.14;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near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indique une adresse sur 16bits au contraire de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ar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sur 21 bits ou p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 mot réservé  « const » définit une const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ertains compilateurs utilisent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am rom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pour définir l’emplac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de stockage ex : ra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onst int i=16569;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s sont rangées dans la RA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 a,b=28,c=’A’ 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volatile 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éclare une variable modifiable par l’environnement (un port // en entrée par exemple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 :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volat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har a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46836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6483"/>
                </a:moveTo>
                <a:lnTo>
                  <a:pt x="17806" y="13490"/>
                </a:lnTo>
                <a:lnTo>
                  <a:pt x="3794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3794" y="13490"/>
                </a:moveTo>
                <a:lnTo>
                  <a:pt x="17806" y="6483"/>
                </a:lnTo>
                <a:lnTo>
                  <a:pt x="17806" y="2049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6381720"/>
            <a:ext cx="22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ristian.dupaty@ac-aix-marseille.f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5:29:04Z</dcterms:created>
  <dc:creator>christian</dc:creator>
  <dc:description/>
  <dc:language>en-US</dc:language>
  <cp:lastModifiedBy>christian</cp:lastModifiedBy>
  <dcterms:modified xsi:type="dcterms:W3CDTF">2003-02-04T08:36:01Z</dcterms:modified>
  <cp:revision>78</cp:revision>
  <dc:subject/>
  <dc:title>Langage C </dc:title>
</cp:coreProperties>
</file>